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22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DC987-10B1-42C5-AB99-9EAC1AB739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D26-AA50-4CE6-AD96-B76C51D3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30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82D6-950E-4689-84BA-4772C013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6C7-BD24-4B1E-A08D-E3C5E843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400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400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4CA9-E015-4586-88D7-AAD6C753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649E-B3D2-43B5-8703-B9F9036F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D20A-8F4D-4156-AB89-DFE45F0E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21E6-75EB-4785-B8EB-155F1A28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23B-757E-4F6A-A653-539793C8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3BD-72FB-4805-8098-01D100AC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453-4757-4F52-9F78-B6A60394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1C0-0DD7-4247-9BB9-701320AA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30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710-6FE3-4FFD-A177-026DAA07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20808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0952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0952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0952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82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86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385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A2B38-C616-4B06-A086-772B9AB01D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answers.com/topic/runes-larsson-gif" TargetMode="External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71680" y="900000"/>
            <a:ext cx="539136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179280"/>
            <a:ext cx="10080720" cy="7740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3240000" y="270036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SWEDEN!!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8424720" y="6659640"/>
            <a:ext cx="1192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By Mal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Tuesday March 11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095640" y="250920"/>
            <a:ext cx="360036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ff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Sweden's 3 crowns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ff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0360" y="3564000"/>
            <a:ext cx="3005280" cy="3095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87280" y="2340000"/>
            <a:ext cx="583236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wedish national symbol is called “Three Crowns” (Swedish: Tre Kronor) and composed by three yellow or gilded crowns ordered two above and one below, placed on a blue back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7280" y="3635280"/>
            <a:ext cx="55530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a symbol of the Swedish government and used by Swedish embassies around the world. But it is also used less formal. Example: the Swedish national ice hockey team, who wear the symbol on their shirts and hence are called "Three Crowns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056360" y="684360"/>
            <a:ext cx="2590920" cy="256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52360" y="5364000"/>
            <a:ext cx="2146320" cy="14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08000" y="2627280"/>
            <a:ext cx="2521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53080" y="1662120"/>
            <a:ext cx="630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53080" y="1662120"/>
            <a:ext cx="630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49640" y="1857240"/>
            <a:ext cx="3838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289080" y="-30240"/>
            <a:ext cx="10080720" cy="7589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440080" y="324000"/>
            <a:ext cx="26766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EDISH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175360" y="324000"/>
            <a:ext cx="20286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NE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335720" y="324000"/>
            <a:ext cx="1526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3676680" y="1370160"/>
            <a:ext cx="48258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lma Lagerlöf, a Nobel-prize (1909) winner writ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n the back a motive From one of her book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ils Holgerson” on the back of the goose Ak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11280" y="1187280"/>
            <a:ext cx="1727280" cy="957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664720" y="2965680"/>
            <a:ext cx="55558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Jenny Lind, 1820–87, also called “the swedish nightingale”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 worldfamous soprano sing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87280" y="1403280"/>
            <a:ext cx="1727280" cy="961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31640" y="2484360"/>
            <a:ext cx="1872000" cy="1081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31640" y="3708360"/>
            <a:ext cx="1872000" cy="100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431640" y="4843440"/>
            <a:ext cx="1872000" cy="1096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664000" y="4992840"/>
            <a:ext cx="46418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ing Carl XI, 1655–97, swedish king 1660–9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431640" y="6012000"/>
            <a:ext cx="1872000" cy="1068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92360" y="5680080"/>
            <a:ext cx="5473800" cy="7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ing Gustav Vasa (1496-1560) founded the Swedish hereditary monarchy and united the loosely connected Sweden of the 1400-hundreds i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 state with a central govern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2360" y="3735360"/>
            <a:ext cx="5832360" cy="7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rl von Linné (1707-1778) created “System Nature”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system for the classification of plants and anima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to different species and families that still is the ba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or natural sciences researc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311640" y="6516720"/>
            <a:ext cx="331128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 called Kron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55640" y="5508720"/>
            <a:ext cx="5113440" cy="1652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143840" y="971640"/>
            <a:ext cx="2936880" cy="2724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527280" y="611280"/>
            <a:ext cx="30481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OCHOLM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2160720" y="1811160"/>
            <a:ext cx="331128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apital Stockholm is a city full of water. Located on several islands and by a spectacular archipelago. You can fish and swim in clean water right in the middle of the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96000" y="1116000"/>
            <a:ext cx="1944720" cy="1727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75000" y="4761720"/>
            <a:ext cx="180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272360" y="4643280"/>
            <a:ext cx="2519280" cy="2178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4360" y="5364000"/>
            <a:ext cx="17290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The King’s cas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00360" y="5580000"/>
            <a:ext cx="576000" cy="287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60720" y="3851280"/>
            <a:ext cx="455616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 Sweden there is 9 million peo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32000" y="4572000"/>
            <a:ext cx="45561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In the capital Stockholm there is 1,5  million peo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95640" y="179280"/>
            <a:ext cx="3867120" cy="438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87640" y="900000"/>
            <a:ext cx="1743120" cy="505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438720" y="3657960"/>
            <a:ext cx="320580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means Merry Christmas in Swedis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38720" y="3657960"/>
            <a:ext cx="320580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means Merry Christmas in Swedis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38720" y="3657960"/>
            <a:ext cx="320580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means Merry Christmas in Swedis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38720" y="3657960"/>
            <a:ext cx="320580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means Merry Christmas in Swedis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1640" y="1576440"/>
            <a:ext cx="5832720" cy="55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hristmas season is a long one in Sweden and these are some of the tra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dvent Candl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On the first Sunday in Advent, the first candle is lit, on the second Sunday two candles are lit ... and so 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ul kalen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For many years Swedish TV and radio have featured an “advent calendar” with different themes - it becomes a must for most families at around 6 p.m. every evening from December 1 until Christmas e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rybody gives eachother gifts on Christmas eve 24 December.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omt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Father Christmas) visits and asks if there are any good children he can give gifts t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traditional to dance around the Christmas tree singing so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Glög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mulled wine) is the main drink of Christ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31640" y="466560"/>
            <a:ext cx="1314720" cy="1047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264360" y="5148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7056360" y="4932360"/>
            <a:ext cx="1125720" cy="1224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175440" y="984240"/>
            <a:ext cx="19195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cc00"/>
                </a:solidFill>
                <a:latin typeface="Arial"/>
              </a:rPr>
              <a:t>Merry Christma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644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A thousand years ago there were Vikings in Sweden. They had a special alphabet - Ru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Five hundred years ago, after many wars, Sweden was a big country. Finland, Baltics, Germany, Poland and parts of Russia and Denmark were in Swedish control and ruled by the 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oday Sweden is a small country and have had peace for 20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61440" y="5651640"/>
            <a:ext cx="2170080" cy="1427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00360" y="5796000"/>
            <a:ext cx="4653000" cy="1272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087640" y="539640"/>
            <a:ext cx="489744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istory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n Sintorn</cp:lastModifiedBy>
  <cp:revision>0</cp:revision>
  <dc:subject/>
  <dc:title>Slide 1</dc:title>
</cp:coreProperties>
</file>